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6DF-321A-4F48-AE94-79F53DCB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86A-ED25-487E-9D78-35D04E7E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25F-05B2-44E2-B520-E60EFA3E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13E-048F-48A7-A138-3ABC90F6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3A4D-3F7F-448B-BAB1-A430D7F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675-7CE7-4E61-95D1-1742C2B3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65AA-9139-4DA6-99C3-94A1ECD1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1B5-FA83-41F2-80F3-89D1F07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BB3-8207-4F9A-BBA2-5063C42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F75-4A1C-4D39-A61B-1447D1A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F06-F920-4F04-A0C0-8354F9A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A3F-9C9D-4E18-8753-8C624C8D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D0A0-C1F3-4183-9979-0E18472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801-9E88-4C80-BB4C-BC553EC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650-76DF-4511-A488-D444D232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052D-FBFB-479B-85F6-B1A8915C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6B5F-3B4D-4510-9B1C-7D1C0C19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BCB-18EE-40B6-B2AD-1AAB7F9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A09-7888-41FF-BC0A-9190D30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FF2-3AF6-4349-999A-7FED914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512-02A1-44DB-B608-D63229E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E0D-47B8-4F04-997D-C05BB59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620-52C5-4F90-B46A-71E389E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11A-5E2E-4879-97E7-395A687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2EE-1F9F-4A62-B251-1B41D0254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979-A6E7-4A13-BBA9-17AFBA0B18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File:William-Calley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19.3:  The War Winds Dow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Protest, protest, and more prot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.  Election of 197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McGovern (D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slide victoryw/60% of popular vo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Nixon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183528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84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.  Christmas Bombing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(’72)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Dec. 1972: peace negotiations break down = “Christmas bombings” (11 days of bombing to resume peace talks stopping only on Christmas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 Jan. 27, 1973 = agreement reached; by March all soldiers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Nalty1.jpg"/>
          <p:cNvPicPr/>
          <p:nvPr/>
        </p:nvPicPr>
        <p:blipFill>
          <a:blip r:embed="rId1"/>
          <a:stretch/>
        </p:blipFill>
        <p:spPr>
          <a:xfrm>
            <a:off x="5257800" y="222084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62120" indent="-762120" algn="ctr">
              <a:buClr>
                <a:srgbClr val="996600"/>
              </a:buClr>
              <a:buFont typeface="Times New Roman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Fall of Siagon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ril 1975, Southern Vietnam falls to Northern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does not approve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Saigon-hubert-van-es.jpg"/>
          <p:cNvPicPr/>
          <p:nvPr/>
        </p:nvPicPr>
        <p:blipFill>
          <a:blip r:embed="rId1"/>
          <a:stretch/>
        </p:blipFill>
        <p:spPr>
          <a:xfrm>
            <a:off x="2057400" y="2967120"/>
            <a:ext cx="59245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I.  The Legacy of Vietn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. Human toll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58,000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300,000 inj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(450,000) PTSD, suicides, add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/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ades; hos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70 Billion on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2: Vietnam Veterans Mem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0" descr="tommycanuhearme"/>
          <p:cNvPicPr/>
          <p:nvPr/>
        </p:nvPicPr>
        <p:blipFill>
          <a:blip r:embed="rId1"/>
          <a:stretch/>
        </p:blipFill>
        <p:spPr>
          <a:xfrm>
            <a:off x="4809960" y="2438280"/>
            <a:ext cx="4334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merica_and_the_Vietnam_War.asf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661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****************************2.  Continued Fighting in SE Asi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799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odia’s Khmer 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  Communist group who opposed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  Wanted a peasant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p killing over 2 million Cambo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5905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 algn="ctr">
              <a:buClr>
                <a:srgbClr val="9966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ixon Moves to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d the Wa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.  Henry Kissinger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ecurity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nkage poli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improve relations w/SU and China so as to reduce aid to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negotiator w/N.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700"/>
              </a:spcBef>
              <a:buClr>
                <a:srgbClr val="99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el Peace Prize winners 197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7800" y="198072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Duc T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69560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Henry_Kissinger"/>
          <p:cNvPicPr/>
          <p:nvPr/>
        </p:nvPicPr>
        <p:blipFill>
          <a:blip r:embed="rId1"/>
          <a:stretch/>
        </p:blipFill>
        <p:spPr>
          <a:xfrm>
            <a:off x="6019920" y="152280"/>
            <a:ext cx="211140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age 1"/>
          <p:cNvPicPr/>
          <p:nvPr/>
        </p:nvPicPr>
        <p:blipFill>
          <a:blip r:embed="rId2"/>
          <a:stretch/>
        </p:blipFill>
        <p:spPr>
          <a:xfrm>
            <a:off x="6114960" y="3505320"/>
            <a:ext cx="19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. </a:t>
            </a:r>
            <a:r>
              <a:rPr b="0" i="1" lang="en-US" sz="4000" spc="-1" strike="noStrike" u="sng">
                <a:solidFill>
                  <a:srgbClr val="996600"/>
                </a:solidFill>
                <a:uFillTx/>
                <a:latin typeface="Times New Roman"/>
              </a:rPr>
              <a:t>Vietnamizatio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ing the Vietnamese take a more active role by withdrawing US troop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secretly bombs Cambo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4594292712604653&amp;id=c577a2d4c9a9a496a63d898f9bf2f597&amp;url=http%3a%2f%2fronwade.freeservers.com%2fsilentMajorityButton.jpg"/>
          <p:cNvPicPr/>
          <p:nvPr/>
        </p:nvPicPr>
        <p:blipFill>
          <a:blip r:embed="rId2"/>
          <a:stretch/>
        </p:blipFill>
        <p:spPr>
          <a:xfrm>
            <a:off x="6006960" y="1738440"/>
            <a:ext cx="2044800" cy="207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s2.mm.bing.net/images/thumbnail.aspx?q=4659919811314357&amp;id=8e102705614c744710c7900ee89c8ac0&amp;url=http%3a%2f%2fwww.52en.com%2fimg%2f197px-Nixon_30-0316a.jpg"/>
          <p:cNvPicPr/>
          <p:nvPr/>
        </p:nvPicPr>
        <p:blipFill>
          <a:blip r:embed="rId3"/>
          <a:stretch/>
        </p:blipFill>
        <p:spPr>
          <a:xfrm>
            <a:off x="6006960" y="3962520"/>
            <a:ext cx="2133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.  My Lai Massacre </a:t>
            </a: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(11/69)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     Lt. Wm Calley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89120" y="15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ugly_mylaimassacre"/>
          <p:cNvPicPr/>
          <p:nvPr/>
        </p:nvPicPr>
        <p:blipFill>
          <a:blip r:embed="rId1"/>
          <a:stretch/>
        </p:blipFill>
        <p:spPr>
          <a:xfrm>
            <a:off x="838080" y="1397160"/>
            <a:ext cx="8305920" cy="5476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illiam-Calle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08800" y="0"/>
            <a:ext cx="173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39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.  Invasion of Cambodia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(4/70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7920" y="1752120"/>
            <a:ext cx="3884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 supply centers and Ho Chi Minh trail without Congress’s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protests increa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t State – 4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State -2 k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3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 Tonkin Resolution repea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Powers 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7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69560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18268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age_662687"/>
          <p:cNvPicPr/>
          <p:nvPr/>
        </p:nvPicPr>
        <p:blipFill>
          <a:blip r:embed="rId2"/>
          <a:stretch/>
        </p:blipFill>
        <p:spPr>
          <a:xfrm>
            <a:off x="5715000" y="4038480"/>
            <a:ext cx="2905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7520" y="376200"/>
            <a:ext cx="90471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War Powers Act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must inform congress within 48 hours if US forces are  sent into a hostile area without a declaration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ops may not stay longer than 90 days unless congress appro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.  Pentagon Papers (6/71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to expand war w/o Congress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. Johnson was not honest with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’t continues to lose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i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s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ellsberg"/>
          <p:cNvPicPr/>
          <p:nvPr/>
        </p:nvPicPr>
        <p:blipFill>
          <a:blip r:embed="rId1"/>
          <a:stretch/>
        </p:blipFill>
        <p:spPr>
          <a:xfrm>
            <a:off x="5257800" y="1828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159680" y="4267080"/>
            <a:ext cx="1984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5-08T19:49:42Z</dcterms:modified>
  <cp:revision>24</cp:revision>
  <dc:subject/>
  <dc:title>PowerPoint Presentation</dc:title>
</cp:coreProperties>
</file>